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B65-1C49-4366-BA0D-D41ACA3D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67F-CA50-4482-BA3E-C5E5F4E5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066-9642-445A-9579-9A2555CB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F41-2885-4440-BB1D-E54BDDDB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DB4A0-5765-42E8-BB42-53E39FDB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91E8D-A392-4B39-A3BD-39BF52DF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FC34B-4174-4F6A-9D04-ED3D3D7D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4DD9F-04BF-40CB-8722-1E508BFC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DA2B6-F615-41D2-9B8D-8497E610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5D38F-3239-4FA3-830F-9634AECC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BBE94-588B-489C-BDD9-771C36D8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F37-4983-4059-A380-509F8EBA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1D6B6-4735-4189-A09C-6A939170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5D403-FBB7-4B57-8AEE-9071BB4F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C165B-7A92-4F54-82B4-5147CA6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9EE02-3E35-4044-9E93-2E023F1C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32FE0-5387-4AFA-8B7C-AEF2C585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292-9642-4174-B507-FD3CA1AC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7A8-3451-479D-A1D6-11B46773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CB5-93F5-459E-8B67-DAE71C7F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A34-FC95-43F8-8DDF-21787234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7B9-4A3F-4997-B9BF-0B360F00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548-BFF0-4D4A-A210-D2D43F41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A8A-82B6-4CA3-AFB0-F553F6CC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9631-415D-4E11-9009-F2FFA1A1F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4127-687C-4755-8718-8D2310158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nvironment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hemistr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drogen Bon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ffff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9048"/>
                </a:solidFill>
                <a:latin typeface="Tahoma"/>
              </a:rPr>
              <a:t>Shap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f water molecule gives water unique bond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ffff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ydrogen bonds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pole-dipole attraction in which hydrogen is bound to a highly electronegative atom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(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F, O, 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33480"/>
            <a:ext cx="845820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Properties of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289048"/>
                </a:solidFill>
                <a:latin typeface="Tahoma"/>
              </a:rPr>
              <a:t>Surface Tens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resistance to an increase in its surface area               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lar molecule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289048"/>
                </a:solidFill>
                <a:latin typeface="Tahoma"/>
              </a:rPr>
              <a:t>Capillary Ac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 Spontaneous rising of a liquid in a narrow tub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289048"/>
                </a:solidFill>
                <a:latin typeface="Tahoma"/>
              </a:rPr>
              <a:t>Viscosit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 Resistance to flo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mical Properties of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Form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ydrocarbo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id/Base neutralization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4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tural - not pure, many things dissolv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tilled and De-ionized - p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ard and Soft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lluted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Substances Found In Natural Wat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998720"/>
            <a:ext cx="59436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verage Daily Per Pers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e Of Water In The 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54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33480"/>
            <a:ext cx="80769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71360"/>
            <a:ext cx="8381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Environmental Chemist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 of the composition of Earth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m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can help determine environmental problems and how to alleviate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Chemistry And Biolo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f Sew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erobic oxid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ccurs in the presence of dissolved oxygen and organic matter is oxidiz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iochemical oxygen dem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asures the quantity of oxygen, in milligrams, needed for the oxidation of the organic compounds in one liter of w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algae in water die, they become organic waste and increase BOD through a process call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utrophic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Anaerobic dec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process by which bacteria reduce rather than oxidize organic matter and many of these reactions produce foul-smelling produc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Contam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73280" y="1676520"/>
            <a:ext cx="3610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H Sc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pH </a:t>
            </a:r>
            <a:r>
              <a:rPr b="0" lang="en-US" sz="3600" spc="-1" strike="noStrike">
                <a:solidFill>
                  <a:srgbClr val="33cccc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log[H</a:t>
            </a:r>
            <a:r>
              <a:rPr b="0" lang="en-US" sz="3600" spc="-1" strike="noStrike" baseline="30000">
                <a:solidFill>
                  <a:srgbClr val="33cccc"/>
                </a:solidFill>
                <a:latin typeface="Tahoma"/>
              </a:rPr>
              <a:t>+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 in water ranges from 0 to 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  &lt;  7  = aci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  =  7  =  neut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  &gt;  7  = ba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pH rises, the solution becomes more basic.  As pH decreases, becomes more acid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id Ra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vironmental application of acids and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 water is normally slightly acidic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H=5.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s water mixes with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atmosp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lution from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xes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 in air and form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making rain more aci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solves marble statues, destroys trees,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ydrogen (Water)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1549440"/>
            <a:ext cx="87631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s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ubstance may be harmless - or even a necessary nutrient - in one amount, and injurious, or even deadly, in another. Many household chemicals are poisono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 acids and bases strong oxidizing agents are highly corrosive to human tiss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bon monoxide and cyanide ion block oxygen transport and use in the human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heavy metals are poisons by deactivating enzy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poisons interfere with nerve cell communications and are called nerve pois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cinogens And Anticarcinog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umo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bnormal growths of new tissue, may be either benign (harmless) or malignant (cancerou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rcinog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material that causes canc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the more notorious carcinogens are polycyclic aromatic hydrocarbons and the aromatic ami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w of the known carcinogens are synthetic chemic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substances in food act a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ticarcinog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substances which help to prevent canc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itamins that are antioxidants (C, E,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carotene) seem to exhibit the strongest anticancer proper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zardous Mater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gnitable materi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substances that catch fire readi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rosive materi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substances that corrode storage containers and other equip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active materi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substances that react or decompose readily, possibly producing hazardous byproduc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 chemic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substances that are injurious when inhaled or inges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hazardous materials can be rendered less harmful by chemical treat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dustrial Produ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By-Produ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600200" y="1868400"/>
            <a:ext cx="52578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ing at Earth’s surface, the primary regions of the atmosphere are the troposphere, stratosphere, mesosphere, and the thermosphere (ionospher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trogen is involved in a natural cycle that has been modified by chemical fixation of nitrogen to make fertiliz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zone,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 the stratosphere protects living organisms by absorbing ultraviolet radi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mospheri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carbon source for carbohydrate synthesis in the carbon cyc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tmospheric pollutants,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ibute to the problems of industrial smog and acid r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cover three-fourths of Earth’s surface, but only about 1% of it is available as fresh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water is easily contaminated by various kinds of chemicals and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mping sewage into water increases its biochemical oxygen demand (BO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ndwater and surface water each provide drinking water for about half the U.S. popu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tewater treatment usually includes sludge removal, sand and gravel filtration, and chlorin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 treatment methods include charcoal filtration, ion exchange, and reverse osmo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xicology is the study of the responses of living organisms to pois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cinogens are slow poisons that trigger the growth of malignant tum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zardous materials include all kinds of industrial products and by-products that can cause illness or dea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itrogen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419120"/>
            <a:ext cx="822960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95280" y="58680"/>
          <a:ext cx="7162920" cy="67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8680"/>
                    <a:ext cx="7162920" cy="67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arbon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1135080"/>
            <a:ext cx="86104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wat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530"/>
                </a:solidFill>
                <a:latin typeface="Tahoma"/>
              </a:rPr>
              <a:t>H</a:t>
            </a:r>
            <a:r>
              <a:rPr b="0" lang="en-US" sz="3600" spc="-1" strike="noStrike" baseline="-25000">
                <a:solidFill>
                  <a:srgbClr val="ffa53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a530"/>
                </a:solidFill>
                <a:latin typeface="Tahoma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 bent polar molecu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st common natural resour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vers 75% earth’s surface, 97% of which is ocean, 3% fresh but 2/3 of that is in polar ice cap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05560" y="457200"/>
            <a:ext cx="10890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659640" y="5202360"/>
            <a:ext cx="24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sential to living 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70% of total body ma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92% blood plasm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0% of muscle tiss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0% of red blood cel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annot live without water!!!!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less, tasteless, odorl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P 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P 10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lar Mass = 18.02 g/m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ific Heat = 4.184 J/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62840" y="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9:44:43Z</dcterms:created>
  <dc:creator>Nancy Thorpe</dc:creator>
  <dc:description/>
  <dc:language>en-US</dc:language>
  <cp:lastModifiedBy>Nancy Thorpe</cp:lastModifiedBy>
  <dcterms:modified xsi:type="dcterms:W3CDTF">2009-05-26T16:57:25Z</dcterms:modified>
  <cp:revision>6</cp:revision>
  <dc:subject/>
  <dc:title>Slide 1</dc:title>
</cp:coreProperties>
</file>